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01652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200240" y="70308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890388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4016520" y="890388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FE2F0E6-5536-47CD-8903-168FC50DC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C3A270E-CB78-4BA2-B2A4-86375C8D2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57320" y="4371480"/>
            <a:ext cx="67737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D52ABAD-F8EF-4A80-B9F6-BEA656494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4935241-1588-44C0-A8A8-9963230E8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10E1EF9-3D29-4723-A7B3-F48119158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284EBCD-BACD-494D-B992-05E54B741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1850415-5D76-411A-BC10-8FA2A9641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B13D1B5-8E0B-4866-83B4-54AFC60B2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D9096FA-5AFC-4D1C-863B-0B74D3C91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3FD-DEAD-4D1E-BFDC-2DF058B0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713A-0FB7-49CA-9802-B3B1E978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133-1655-4103-BA01-46A46301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485-36DC-44BF-88FB-6BFD8052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A94B-A994-471A-8D1E-7C54612F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7A5B-230B-47EE-BAC5-17820228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01A1-D5C0-4F72-9E96-85ADE95D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78C6-8F65-47AE-979F-4FDBE4C2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0665-DB97-4AEA-95DC-3382E3DD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476C-813D-4076-B0F8-D9A7DCD7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6472-F482-41B6-B3FA-A05333AE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0797-7B7C-4AF3-86F5-808036D4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D43F-158B-4AC1-990B-7610EF00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F8EA-B4E6-470A-B9B8-7F4EF3DA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4C45-ACF7-422B-ACAC-BAD668D5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9A54-B2DB-4E32-B7C2-167519CA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3949-C916-40CA-AB25-F2FD8336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32E93-FBD8-49C9-9E2A-800A963B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4982D-10D1-4596-9403-D92CE763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76D2D-8767-4B72-8C4A-1C2C9163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CE0C6-8086-43EC-B5CF-FDF5C508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CF8CA-9965-40F8-A04B-72E574CA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120-B1AC-43A8-B7A9-A573F64B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19CB7-FA45-4F72-BD72-BC04BEE9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87E91-FF3D-4DA0-ABE1-51DF9048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961C7-809F-400E-BB0C-2714A1FF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45DCA-2E5B-48EB-B9C7-4074D97F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D9D03-CD97-4D1F-9411-6B397070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1367A-CA6E-4920-9BEF-EDFF3107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846E0-013C-4CC3-AAB3-536C203D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80153-0C3F-4C91-AAB7-75E5AE31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AE025-0F74-46E0-835A-B5D4E1C2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EDFEB-236B-40C1-BEA9-DD52357A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0C53-9BF1-4CD1-8078-EDCD10D0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EF147-82BB-4355-BA71-CF984B10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EF41A-A33D-4923-90FF-3DC88E98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9D18F-712D-4995-B0E1-AFEC9023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14A82-F7AA-427C-9995-EE4528A0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121FD-A834-4B0E-9336-CF200F1E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0A233-D774-43B4-A700-A0E4320A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43C5C-0BAB-476E-AB7B-8910F568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6D43B-329D-4643-9015-E6D36CCC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21643-6F8E-4E29-8749-B1713ECB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CFC-F43E-4F9C-9D78-2F2A209C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9344-211F-446E-A802-DF98E258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64F-B8A1-459D-8FDC-3FB96DA0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E039-3F1C-409D-B465-54E4D657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2DE-DFA6-404A-A002-123E95C7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41EF-ABB0-485F-A5DF-B0F6438E99E5}" type="slidenum">
              <a:rPr b="0" lang="en-US" sz="1200" spc="-1" strike="noStrike">
                <a:solidFill>
                  <a:srgbClr val="045c75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A5AD-F122-4071-81FA-2FA73A0D8DE1}" type="slidenum">
              <a:rPr b="0" lang="en-US" sz="1200" spc="-1" strike="noStrike">
                <a:solidFill>
                  <a:srgbClr val="d1eaee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56F9-7988-4A8F-B9FD-A0D464F71497}" type="slidenum">
              <a:rPr b="0" lang="en-US" sz="1200" spc="-1" strike="noStrike">
                <a:solidFill>
                  <a:srgbClr val="d1eaee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A7A3-ED83-4990-82E4-FCC5EB46803E}" type="slidenum">
              <a:rPr b="0" lang="en-US" sz="1200" spc="-1" strike="noStrike">
                <a:solidFill>
                  <a:srgbClr val="045c75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id-Term Presentation</a:t>
            </a:r>
            <a:br>
              <a:rPr sz="4900"/>
            </a:br>
            <a:r>
              <a:rPr b="1" lang="en-US" sz="55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How assisted reading</a:t>
            </a:r>
            <a:br>
              <a:rPr sz="5500"/>
            </a:br>
            <a:r>
              <a:rPr b="1" lang="en-US" sz="55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helps improve </a:t>
            </a:r>
            <a:br>
              <a:rPr sz="5500"/>
            </a:br>
            <a:r>
              <a:rPr b="1" lang="en-US" sz="55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reading fluency and comprehension </a:t>
            </a:r>
            <a:br>
              <a:rPr sz="4900"/>
            </a:b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" y="464832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ana Samoylov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SE 7201T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2016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ar in Applied Theory and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I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4" name="Picture 6" descr="Image result for assisted reading helps improve reading fluency and comprehension"/>
          <p:cNvPicPr/>
          <p:nvPr/>
        </p:nvPicPr>
        <p:blipFill>
          <a:blip r:embed="rId1"/>
          <a:stretch/>
        </p:blipFill>
        <p:spPr>
          <a:xfrm>
            <a:off x="5359320" y="3886200"/>
            <a:ext cx="3556080" cy="266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able of Content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           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 of the Problem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of research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esis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   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the Literature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8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Statement of Probl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Fluenc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is one of the defining characteristics of good readers and a lack of fluency is a common characteristic of poor readers as well as a reliable predictor of reading comprehension proble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udents of different ages and reading levels, especially English Language Learners (ELL) and students with learning disabilities have problems with fluency and reading comprehension of different text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urpose of research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5840" y="1676160"/>
            <a:ext cx="4876920" cy="35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By conducting this research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I want to measur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how the assisted reading approach affects fluency and reading comprehens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of  beginner readers or English Language Learner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3" descr="Image result for assisted reading"/>
          <p:cNvPicPr/>
          <p:nvPr/>
        </p:nvPicPr>
        <p:blipFill>
          <a:blip r:embed="rId1"/>
          <a:srcRect l="6159" t="0" r="15829" b="-1616"/>
          <a:stretch/>
        </p:blipFill>
        <p:spPr>
          <a:xfrm>
            <a:off x="598320" y="1371600"/>
            <a:ext cx="2982960" cy="25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5" name="Picture 5" descr="Image result for assisted reading"/>
          <p:cNvPicPr/>
          <p:nvPr/>
        </p:nvPicPr>
        <p:blipFill>
          <a:blip r:embed="rId2"/>
          <a:srcRect l="0" t="11430" r="7860" b="0"/>
          <a:stretch/>
        </p:blipFill>
        <p:spPr>
          <a:xfrm>
            <a:off x="380880" y="4038480"/>
            <a:ext cx="3353040" cy="241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Hypothesis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294920"/>
            <a:ext cx="8534160" cy="474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ssisted instruction given in form of the repeated out-loud reading or audio-assisted reading will improve both fluency and reading comprehension of a group of ELL students at the public schoo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ree times a week, for 35 minutes each session, over two month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 a mainstream classroom, at the local showcase public school in Brookly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dents (6 boys and 4 girls), age 9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ade, English Language Learners, no IEP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Variables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0880" y="1447560"/>
            <a:ext cx="8382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dependent 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ed instruction given in forms of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peated out-loud read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dio-assisted read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pendent Vari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effects of the intervention on reading fluency and comprehension that will be measured in form of the series of tes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easure initial abilities of student to read fluently and comprehend text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-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easure and modify the instruction if necessary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easure students' fluency and reading comprehension after interven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Review of Literature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190760" y="106668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ome limitations in this research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ther variables to consider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characteristics of student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ing and physical disabilities of student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time students spend at home practicing reading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interventions, etc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studies that suggests to conduct more research before making any generalization is called “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ing for generalization of oral reading fluency using computer-assisted instruction and changing fluency criteria” b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s, Cartledge, Gibson and Robinson-Ervin, 2016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04920" y="1086120"/>
            <a:ext cx="3886200" cy="50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Calibri"/>
              </a:rPr>
              <a:t>Pro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There are multiple studies that were conducted previously show: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ssisted reading together with repetition can improve not only fluency, but also reading comprehension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during the assisted reading sessions, a student works on a text, using visual as well as audio senses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One of the studies that supports my research was done by Rasinski and Young  and called “Assisted reading - a bridge from fluency to comprehension”, 2014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152280" y="491040"/>
            <a:ext cx="8763120" cy="60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References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rton-Arwood, S. M., Wehby, J. H., &amp; Falk, K. B. (2005). Reading instruction for elementary-age  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udents with emotional and behavioral disorders: academic and behavioral outcomes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xceptional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ildren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2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, 7-27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Dowhower, S. L. (1987). Effects of repeated reading on second-grade transitional readers’ fluency and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         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comprehension. </a:t>
            </a:r>
            <a:r>
              <a:rPr b="0" i="1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Reading Research Quarterly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, 389-406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steves, K. J., &amp; Whitten, E. (2011). Assisted reading with digital audio books for students with reading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sabilities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ding Horizo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1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, 21-40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Hapstak, J., &amp; Tracey, D. H. (2007). Effects of assisted-repeated reading on students of varying reading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bility: A single-subject experimental research study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ding Horizo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7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4), 315-33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Hudson, R. F., Lane, H. B., &amp; Pullen, P. C. (2005). Reading fluency assessment and instruction: What,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         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why, and how?. </a:t>
            </a:r>
            <a:r>
              <a:rPr b="0" i="1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The Reading Teacher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58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(8), 702-71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Keyes, S., Cartledge, G., Gibson Jr., L., &amp; Robinson-Ervin, P. (2016). Programming for generalization of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al reading fluency using computer-assisted instruction and changing fluency criteria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ducation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&amp; Treatment of Children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9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2), 141-172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asinski, T., &amp; Young, C. (2014). Assisted reading-a bridge from fluency to comprehension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w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gland Reading Association Journa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0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, 1-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evens, R. J. (2006). Developing reading fluency: What does the research say?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alyst For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ang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4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, 37-4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aguchi, E. t., Melhem, L. l., &amp; Kawaguchi, T. a. (2016). Assisted reading: a flexible approach to L2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ding fluency building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ding Matrix: An International Online Journa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6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, 106-118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Therrien, W. J. (2004). Fluency and comprehension gains as a result of repeated reading a meta-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          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analysis. </a:t>
            </a:r>
            <a:r>
              <a:rPr b="0" i="1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Remedial and special education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25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(4), 252-261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6T23:17:37Z</dcterms:created>
  <dc:creator>Molloy</dc:creator>
  <dc:description/>
  <dc:language>en-US</dc:language>
  <cp:lastModifiedBy>Windows User</cp:lastModifiedBy>
  <dcterms:modified xsi:type="dcterms:W3CDTF">2016-10-18T19:20:59Z</dcterms:modified>
  <cp:revision>103</cp:revision>
  <dc:subject/>
  <dc:title>Gender Paradigms &amp; Theories   What’s in the R2 ??</dc:title>
</cp:coreProperties>
</file>